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D48-7DFC-437B-B0B9-FAC7BFC9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00C-EE6B-4F52-8A6B-A32B756D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8D6-F992-497B-861E-5C82B3D8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E20-8B4A-42F9-9E20-B238D90D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738-CA61-462B-A758-BB04BD0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550-68E6-41D4-94BA-55ED237A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B75-77E4-4B48-87FD-E635B61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88E-6DDF-41AA-A2E8-89BF65D0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B26-F9C8-4402-8CDB-8CE9E2D3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E99-01B6-4356-BE06-9281D9B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823-C956-4116-8641-C899BA1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91B-1BA9-4585-9AE5-B6AAE8EB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0DCE-ED29-423B-A060-DB1FA7FC5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16E Matrices for simultaneous equation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hen an equation contains two unknowns, two equations are required to solve the unknowns. Simultaneous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Here is a pair of simultaneous equation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571760" y="3786120"/>
            <a:ext cx="186660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571760" y="4357800"/>
            <a:ext cx="186660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e can write these equations as a matrix equation in the form AX = 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here A =             is 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coefficient matrix 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=       and B =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428920" y="2786040"/>
            <a:ext cx="2495520" cy="78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786040" y="3786120"/>
            <a:ext cx="1038240" cy="781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1571760" y="4929120"/>
            <a:ext cx="466560" cy="771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3571920" y="4857840"/>
            <a:ext cx="46656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is the matrix of coefficients of x and y in the simultaneous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is the matrix of the pronumerals used in the simultaneous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 is the matrix of numbers on the right hand side of the simultaneous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 equation in the form AX = B can be solved by pre-multiplying both sides by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 Ex 16E, Q. 2a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6E, Q. 2b, 2e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6E, Q.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6E, Q. 2b, 5, 6, 9, 10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6E, Q.12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6E, Q. 14, 15, 16, 17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8:18:35Z</dcterms:created>
  <dc:creator>08843474</dc:creator>
  <dc:description/>
  <dc:language>en-US</dc:language>
  <cp:lastModifiedBy>08843474</cp:lastModifiedBy>
  <dcterms:modified xsi:type="dcterms:W3CDTF">2011-05-16T09:01:26Z</dcterms:modified>
  <cp:revision>1</cp:revision>
  <dc:subject/>
  <dc:title>Matrices</dc:title>
</cp:coreProperties>
</file>